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F54-596D-4A70-8AB1-D94DA66F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8B1-3170-4151-9F8C-C8096C81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A3C-0B65-4614-9E7C-BDDDE755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E8B4-6C4D-475E-98EB-BE914C6D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16A0-9CC4-485C-BF4D-68C336E5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9AA3-0E49-4C49-9972-DBA41F66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2BA6-5C9D-43F4-A531-A5FBD3C2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2138-B7C2-4997-AE6E-EE22E5C6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8513-DCF6-4A64-9918-138C53AE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B68C-C463-42E8-B009-F838B8B4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0547-AD11-40CC-B086-7EFFC4E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C178-CA4D-4B7B-B64F-17BE613F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4C34-3017-41C6-810A-846AD5A6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793B-1218-4092-84EA-53B79AE2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4547-66D2-4C60-88F8-BE65016F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6381-D2C7-49C9-BD34-91B0927F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F27D-A06F-4F98-A1BF-AE6150CC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407C-C737-49E7-8FF6-CFDA51D3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622CF-439D-4EAB-96A2-B1F62038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A8870-C24A-4F63-BA78-F5DFBAC0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9D35-B5F1-4366-A964-5B12B982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CEFE-8956-41A9-9CBD-A1B1747B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5AFC-F768-4D3B-9F11-081A2714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548A-75A0-4096-8F6A-3824DD24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0C61-71FA-4B1F-A483-E16FE6FB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5DF3-61D5-497F-9199-4E671B08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0863-C677-43C9-A6D5-D548BC9D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66FEF-8A84-4EC1-A473-EE9CF5C7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325B-5BF5-427B-BBFA-64F117C7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EC119-07C2-4EF3-BD6D-3A44D561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22F8-7606-4FE8-AC04-BD25EFD9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921A-5CA7-4DB3-8638-19237A1E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586E7-F3BC-441B-B9DF-0426E287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90B-FA91-43D3-9227-ED4C5DB6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FA4A-D99A-44FA-8E21-B6EAB13D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69A05-E507-4F8D-887A-CE21DD2A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AC5C9-97C2-4EE9-BBF4-21D7F35C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8A02-A627-4DCC-9FAF-C81A4769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916D2-D563-4109-83C4-153D1757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77C58-44BB-4E8C-8098-EC2090A4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112B0-FFFE-4086-A19E-0D9B2B9F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08312-D8AE-43EF-AB65-EE7AF7E2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31A4E-1597-40E2-B384-24AF9F09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578-473D-406A-BB0A-C84FC979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CCD-6D24-4DB4-AEDE-9F3C62E0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4C4-67E8-4085-9366-F728E638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352-1BFE-48C4-8530-220BB030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9DA-EC26-4DEC-A77A-C2CDCAB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846C-39DA-451C-9048-C7A4667E5E22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A051-9EBC-43FF-ACC4-0D11D94E218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1CCE-D83F-48FD-80DB-8F1FB03C648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4387-38B3-44AE-A6E7-71F19111DCB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БОУ «Средняя общеобразовательная школа №1»</a:t>
            </a:r>
            <a:br>
              <a:rPr sz="2200"/>
            </a:br>
            <a:r>
              <a:rPr b="0" lang="ru-RU" sz="2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г. Мичуринск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 урок по теме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химических задач с математическим содержанием»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имия и математик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анова Людмила Иванов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сова Татьяна Васильев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высшей квалификационно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ы 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1 -  40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2 – СН3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3 – СН5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дача 4 -  НСООН (муравьиная кислота) – 33,3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2Н5ОН – 66,7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 нейтрализацию 15,2г смеси муравьиной и уксусной кислот потребовалось 120г 10% раствора гидроксида натрия. Вычислите массовые доли кислот в исходной смес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месь изомерных м- и о-алкилфенолов массой 32,4г может вступить во взаимодействие с водным раствором, содержащим 128г брома. Такое же количество смеси может  нейтрализовать 16,8г едкого кали. Определите состав смес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строение сложного  эфира α-аминокислоты, если известно, что он содержит 15,37% азо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357120" y="2143080"/>
          <a:ext cx="8501040" cy="2928960"/>
        </p:xfrm>
        <a:graphic>
          <a:graphicData uri="http://schemas.openxmlformats.org/drawingml/2006/table">
            <a:tbl>
              <a:tblPr/>
              <a:tblGrid>
                <a:gridCol w="1908360"/>
                <a:gridCol w="920520"/>
                <a:gridCol w="986040"/>
                <a:gridCol w="987480"/>
                <a:gridCol w="874440"/>
                <a:gridCol w="874800"/>
                <a:gridCol w="1030320"/>
                <a:gridCol w="919080"/>
              </a:tblGrid>
              <a:tr h="195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сятичная др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нт,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Индивидуальная работ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Некоторый углеводород содержит 11,76% водорода по массе. Известно, что молекула этого углеводорода содержит один третичный атом углерода. Установлено, что этот углеводород может взаимодействовать с аммиачным раствором оксида серебра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рганическое вещесво, массовая доля углерода в котором составляет 0,6206, водорода – 0,1032, кислорода – 0,2758, имеет относительную плотность паров по воздуху, равную 2. Установлено, что вещество не реагирует с гидроксидом меди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), но вступает в реакцию с хлоридом фосфора (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V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)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Оганическое вещество содержит 40% углерода, 53,3% кислорода, 6,6% водорода. Известно, что это соединение  взаимодействует гдроксидом калия, но не реагирует с калием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Массовая доля хлора в монохлоралкане 38,38%. Установите молекулярную формулу исходного органического вещества, составьте структурную формулу этого соединения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ы к задача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 – С(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С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    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О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НСОО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ронтальная работа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задания муниципального этапа 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ОШ по хими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кислени 1,18г смеси муравьиного и уксусного альдегидов избытком аммиачного раствора оксида серебра образовалось 8,64г осадка. Определите массовую долю альдегидов в смес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твет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сусный альдегид – 25,4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равьиный альдегид-74,6%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ронтальная работа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задания муниципального этапа 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сОШ по химии)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,6г смеси трех органических кислот – муравьиной, уксусной и щавелевой – разделили на две равные части. При полном сгорании первой части выделилось 20,16л газа. Для нейтрализаци второй  части смеси было израсходовано 400г 14% раствора едкого натра. Какой состав имела анализируемая смесь кислот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тв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уравьиная кислота – 13,8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ксусная кислота – 12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Щавелевая кислота – 9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дачи для работы в группах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месь бутена-1 и бутадиена-1,2 объемом 1,12л может максимально обесцветить 400г бромной воды с массовой долей брома 3,2%. Определите объемную долю бутен-1 в исходной смес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результатет межмолекулярной дегидратации предельного одноатомного спирта образовался простой эфир, массовая доля углерода в котором равна 52,17%. Установите молекулярную формулу спи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ведите молекулярную формулу органического вещества, содержащего 38,7% углерода, 16,2% водорода и азот. Относительная плотность этого вещества по водороду равна 15,5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и действии натрия на 27,6г смеси этилового спирта и предельной одноосновной кислоты выделяется 6,72л газа, а при действии на ту  же смесь насыщенного раствора гидрокарбоната натрия – 2,24л газа. Определите состав исходной  смеси ( в % по массе) и строение органической кислот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11T17:02:41Z</dcterms:created>
  <dc:creator>1</dc:creator>
  <dc:description/>
  <dc:language>en-US</dc:language>
  <cp:lastModifiedBy>Учительская</cp:lastModifiedBy>
  <dcterms:modified xsi:type="dcterms:W3CDTF">2021-11-17T15:53:36Z</dcterms:modified>
  <cp:revision>27</cp:revision>
  <dc:subject/>
  <dc:title>Решение химических задач с математическим содержанием</dc:title>
</cp:coreProperties>
</file>